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BC7-F2B7-490D-BBAB-F34EE032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FF7-62C1-456B-AA3B-9CE9CA9F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A32DE-D9A7-42FB-8F5C-DF0E2CA2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D6587-6537-4801-A525-8D6CBD15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62774-5D67-41FF-9E7C-50F6F685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704EF-B030-43A3-9126-C4F0FE63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EFEA7-1353-49FF-A28F-0DCB98DE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8A514-F309-4928-8009-22D7D4F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EAAEF-8E09-47CC-93A1-FC00DF78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E5DA6-E633-4C1B-9313-FFCCBDBB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58ACD-A538-41DC-899E-686D3FD5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5172A-6ED6-4F81-8623-148C33C4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B5A-A9FB-4836-86EF-E22B0DA9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F241A-2BDD-42BA-A37F-78FA5B9B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0617C-424E-454C-8A84-F53434C1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492A3-7F3B-4610-ACA6-1F08F5C8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56109-9550-4B1F-8925-B85E129F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63502-49FE-4B60-8B6E-06C32193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1F014-60CC-49B3-82C4-5F7C4BA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DEF0B-EB9D-4CEC-BAA7-F104D29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ED6C3-3675-463F-8BEF-7126BA2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7B951-D465-4B17-8DEC-E166C376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0FB20-477F-40A4-B216-21B29C6D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044-DD4D-43D2-A15C-15DA5B59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19C2E-1B0F-4470-BC75-969344FA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845DB-D15F-4224-BC10-83F312AB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1AC02-16F3-4A7E-BE91-B8470E6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2CB28-63AD-4F40-A385-36ABAE15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8F078-8ED0-48CD-8BC6-DEB729AB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38D50-50E0-4D3E-AB93-5BC60618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6539A-91C9-4232-9B4D-0A1F9F24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A1105-5E40-43BD-8037-C4D2325B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9EA0D-0823-4C85-9234-4AFCFA2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1EF50-5F33-4A9F-ABD8-10534606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9730-0852-470C-971A-CF4E432F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A2C76-BC18-4A1D-B571-697EB88D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DBF1D-BD08-4320-9D49-62667DF3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6C0CD-21FE-4C1F-824E-60BC7D1B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3FB76-37C5-4192-BD4D-2116D461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53108-180A-477B-B33C-B86517CC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71F70-C93B-4CF8-8326-FED026D5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A5295-EBC5-42F1-8117-F83C7131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6F825-0548-4131-814F-5F242F6C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B34BC-EC9F-406F-B0BF-EB3EB85A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126BD-B5A2-45EB-A135-F26B5828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04D4-C2BA-4E06-99F1-EBAF0219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8ABE1-6F16-4CC1-8869-E5B8EED4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5970A-94DF-470C-841D-6FBAE5C8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E714E-E99D-466E-A49F-1F1CECF0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21A1C-E199-49C6-9EDC-EBA20C5C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B4355-3734-4CE2-9C93-2E6165A9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56E8-24FA-4208-B3E8-BC6F42A5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3236-139C-4121-9AA6-F8CD28E4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443B-0A31-4769-B6C7-AAA7E95F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0D53-81C5-4348-8E92-AF401DA7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8E03-5664-4034-9DC2-56190BE9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1EE-FC03-470C-A01A-AD7C1F46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6C52-1B8D-4FAC-B97D-376F6AE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7B4C-E913-4ABD-83A9-6DB04440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4DC3-E0B7-4239-ADEB-98B81E89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69FD-894D-4BCF-AA00-79CA2C36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7203-2C05-4D2D-AEB6-6628D1FA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5262-49F8-432A-99B0-318C3279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6573-FF7B-475A-B2CE-D2A8F2BA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84E6-74F9-409C-A377-2C1125B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C9B4-E6D9-4D81-A170-E32831F8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F415-2AAE-48C2-A94B-0F866E39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42B-89F7-454D-9527-C3A83F06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F457-C7F2-4003-B741-2FB9C4C7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1ABC-8B44-4ACD-A3EC-88ECE65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74A4-DCC0-49AF-90F8-61B2A885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AD90-8181-4C98-A10F-5E3960C9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2C67-0F09-4127-B8F3-8BA9BB2E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978C-0926-4A80-84EE-9746B98D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4A76-D6AA-40D7-9225-1DC329C3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3D67-9258-4632-A56E-74026495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EF20-286B-45B0-9337-2C7D0537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94DA-9BFE-4FE8-9765-5EA41F38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F51-ED99-42C0-A27F-CBC54012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DE6F-55D3-4138-9D7F-04E36E40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A55E-1771-4B29-ABD1-FDD9624B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86D5-9F4D-4024-BBA6-5D8FFEDF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00BD9-BD1D-4FDD-A128-A1B55F0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D0F3B-E8C1-4CAA-AAD0-10E65C1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FC80-7F7D-4955-B6F8-CDE97A04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6A68-B551-4B79-B82C-050231A8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7639-3117-4ECE-AF95-4E2A978F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4904-5571-4A10-927E-5584483D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522CD-BE64-4859-A47B-84FCE372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A8D-0A12-4B68-9ADC-25AF79E3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744F-EF35-4AE2-AFA4-966754F0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1D21-954B-4FE5-816F-FDCE8225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8132-B595-4B9C-9ABD-0A10BE0F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DC969-A79F-4B38-8A35-6179436C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F8CD-52DB-4D79-99CF-BA90926F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FBB7-6A98-439D-827F-CE98C87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922C-93FD-49F4-96AE-C79FFCE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39F2-35DC-458C-B639-7C744DAE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E870A-FE44-4DE7-837F-5DE27B0D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6F2F0-AE29-463C-83B6-6BAB450F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176-53DA-4F06-BE8C-1DA9B8F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8441-6E6E-4205-BAB0-1506454C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D91D-F590-4EBF-BF23-88EDA60A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0BDE0-B03C-42F4-9230-36FCA65C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7B8AD-9E9A-440D-B6B6-3F5A4862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986C3-EF82-4EDC-9097-CAE8A1A8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9AA2F-AB7B-4FC4-9CD9-1A2EE762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7C236-C5C7-4D83-8361-B0BBC0D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A9C9-1035-4D5F-9C00-8EBA4C3A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1C1FA-CF8D-4391-A06E-78D3FB4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516E-5FD5-4DF0-8AB1-716CFB6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0D3-AE4E-49AF-940B-A69423B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CB9C-51CC-4D93-87A7-4299F972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B7C9-AC2C-4E06-99B3-C7CB2A56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E0AD-A8B9-4337-A8F8-2AD70CF7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7C9D5-0B2B-4875-92C0-E45159D1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48F1-FC2E-4A02-8F42-B28684B2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6C347-6DEE-4F67-A239-FF54CEA8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6BD03-F349-489F-B687-7D2C644D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1A0C2-DB71-498D-BD68-367CD756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270A5-23B5-4E7F-BFB5-DCDBA4D2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A4BA4-385C-426C-9CE6-4433908B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A45-F306-4B82-9243-024610A2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50343-51FF-420B-9644-7D56438E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07D61-325C-4610-814D-AEFBFD3A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C7F4-0923-4A05-B02A-DA6AA420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9B7E6-EC0F-4A5D-828F-9A710408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F1B92-E129-47D6-BCFF-9F249E85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63082-25D7-4C30-8441-C2C06F93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22858-A806-4B33-B1F8-CBD654E5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35FFD-C8E7-48C4-AF8E-CBC850D4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D0887-9866-4CAA-A489-7EEB99E0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BB198-8EC2-4504-B238-6413C70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F22-677B-488D-9701-A2205F2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A485E-247F-46B2-B628-CCD908C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749AA-9E60-441A-B1C3-7A81C9B2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7D0E-2969-447D-BFBA-85980E9D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93C56-0708-43A6-B5FA-A223BCB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092BA-04D2-4EC3-9120-80C23812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EDBF9-B473-4531-8A80-6BFC9CB3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80E68-CF08-478B-9BEC-8112A776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C1C8F-CF84-46B9-ABD6-AE08BA40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7906C-8DEE-4CBC-B2D4-06D66104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EED87-A9DD-4A05-B790-397FCB65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61E9-8268-4E14-9406-B453FFBA25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1400-9907-4482-93CC-CA4B921C8F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9443-06CC-4E4C-B8FE-F9CC8749C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2B49-0E89-4F17-886E-3CE380F51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267B-AE31-4C80-93ED-7DB5E5EBC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8A89-9A55-4B43-9318-6D8971049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06B8-086B-4DE2-A39D-6A2E64D44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800-F84C-4B9E-9CD0-53BDB225D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CCF2-A258-4BA5-A83C-D16B9BBF9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0142-1CE4-44A8-8010-BC502EB17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9007-0810-4CB7-ABE3-AB908C2398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BB17-FCE6-4E2D-9152-EEDF3B0A5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MANDA CUNHA, ASHLEY KERSHAW, TARA LEVINE, AND MADELINE STENK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MRS. MCNELIS’S THIRD BLOCK CLASS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dicting Height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nd Size Residual Plo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920" y="21765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s is a good model because the residual plot is scattered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4906800" y="1581120"/>
            <a:ext cx="38260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nd Siz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Males: larger y-intercep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e slopes are about the same , but the y-intercept for the males is larger because they are tall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 = 0.566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emales: smaller y-intercept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e females have a smaller y-intercept because they are shorter which makes their LSR line  lower on the graph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 = 0.693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36" name="Picture 3" descr=""/>
          <p:cNvPicPr/>
          <p:nvPr/>
        </p:nvPicPr>
        <p:blipFill>
          <a:blip r:embed="rId1"/>
          <a:stretch/>
        </p:blipFill>
        <p:spPr>
          <a:xfrm>
            <a:off x="4906800" y="215100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est Mode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514600" y="160020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m sp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ghest correlation (.866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st fit for the residual plo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Ashle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Tar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28240" y="2362320"/>
            <a:ext cx="4343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ight=14.3+.785(64)=64.5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6-64.54=1.46 inch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47960" y="2362320"/>
            <a:ext cx="426708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ight=14.3+.785(59.75)=61.20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0-61.204=-1.204 inch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Group Members’ Residuals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Actual-predicted=residual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TextBox 7"/>
          <p:cNvSpPr/>
          <p:nvPr/>
        </p:nvSpPr>
        <p:spPr>
          <a:xfrm>
            <a:off x="152280" y="4952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ight=14.3+.785(62)=62.9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4-62.97=1.03 inch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152280" y="3657600"/>
            <a:ext cx="4419720" cy="10994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Madelin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Ms. Matter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Mr. Timm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eight= 14.3+ .785(69.5)= </a:t>
            </a:r>
            <a:r>
              <a:rPr b="0" lang="en-US" sz="2500" spc="-1" strike="noStrike">
                <a:solidFill>
                  <a:srgbClr val="7f7f7f"/>
                </a:solidFill>
                <a:latin typeface="Georgia"/>
              </a:rPr>
              <a:t>68.86 inch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e are confident about this prediction because on the arm span graph, her arm span is not far off from others’, so it does not have high leverag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723920" y="2362320"/>
            <a:ext cx="40388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eight= 14.3+ .785(74)= </a:t>
            </a:r>
            <a:r>
              <a:rPr b="0" lang="en-US" sz="2300" spc="-1" strike="noStrike">
                <a:solidFill>
                  <a:srgbClr val="7f7f7f"/>
                </a:solidFill>
                <a:latin typeface="Georgia"/>
              </a:rPr>
              <a:t>72.39 inch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e are fairly confident about our prediction because Mr. Timmons arm span is within the x range although it is towards the end where there are not many data points from which to base prediction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edictions for Teachers’ Heigh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ias &amp; Error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n’t specify whether or not to take off socks--affects he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n’t specify which hand to measure and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exact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re on wrist to end the measurement-- affects hand si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times approximated to tallies on the board-- affects accuracy of the  height measur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a ruler after the tape measure ran out-- may have made arm span calculations less accur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asurements in Inche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igh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ood up against the wall without shoes 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m sp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er finger tip to the other pointer finger tip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ircumference of the head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er finger tip to crease of wrist   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m Span Scatterplo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51920" y="19807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sitive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inear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oderately stro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0.866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= 0.7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eight=14.3+0.785(arm span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4952880" y="218124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m Span Residual Plo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4920" y="2666520"/>
            <a:ext cx="4038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s plot is a good linear model because the residual plot is scattered without a patter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5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rm Spa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21765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ales: steeper slop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enerally taller and have a larger arm span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 = 0.656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Females: smaller slop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enerally shorter and have a smaller arm sp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 = 0.787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4906800" y="215100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ead Size Scatterplo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648320" y="1752120"/>
            <a:ext cx="44956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sitiv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inear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oderate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utlier at 20 inch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gh leverag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fluenti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0.566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25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= 0.32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eight = 8.6+2.58(headsize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8260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ead Size Residual Plo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723920" y="2514600"/>
            <a:ext cx="40388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fter removing the outlier, this plot became a good fit because it is scattered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407880" y="1835280"/>
            <a:ext cx="38260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ead Siz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0520" y="2176560"/>
            <a:ext cx="40388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ale: larger slop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ead size generally is larger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 = 0.4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Female: smaller slop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ven without the outlier, the head size for the females was generally smaller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 = 0.145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7" name="Picture 3" descr=""/>
          <p:cNvPicPr/>
          <p:nvPr/>
        </p:nvPicPr>
        <p:blipFill>
          <a:blip r:embed="rId1"/>
          <a:stretch/>
        </p:blipFill>
        <p:spPr>
          <a:xfrm>
            <a:off x="4906800" y="215100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and Size Scatterplo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28240" y="1676520"/>
            <a:ext cx="4422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sitive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inear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oderately strong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0.755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25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= 0.57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eight=27.3+5.51(handsize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4906800" y="2151000"/>
            <a:ext cx="3826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1:35Z</dcterms:created>
  <dc:creator>Kershaw.A343</dc:creator>
  <dc:description/>
  <dc:language>en-US</dc:language>
  <cp:lastModifiedBy>Tara Levine</cp:lastModifiedBy>
  <dcterms:modified xsi:type="dcterms:W3CDTF">2010-10-12T21:38:01Z</dcterms:modified>
  <cp:revision>14</cp:revision>
  <dc:subject/>
  <dc:title>Predicting Heights</dc:title>
</cp:coreProperties>
</file>